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C0F-4678-4E6A-BCD5-BEFF2310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D53-C863-462C-9702-D57E604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9FA-FEA4-4CB4-8248-449013E6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200-DF32-4E4F-8129-96FF5523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4D1-5AB9-46BD-8705-291E9CD1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7F4-0A04-4A2B-84BE-33A113DA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8DA-9C92-4098-958C-D8575CB9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1C5-9A39-460B-A38F-D77444E3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5B2-6E43-40A4-B32F-07E9BDD9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F2D-0325-4DE1-BC2E-981B658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987-4F64-49D6-B813-730B3EC3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D3C-2163-46AB-A186-73FFFA5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F408-A0FB-4EF4-BE6A-F43D9D5353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762120"/>
            <a:ext cx="51055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Role-play the convers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85800" y="1371600"/>
            <a:ext cx="76201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Sally: </a:t>
            </a:r>
            <a:r>
              <a:rPr b="1" lang="en-US" sz="3400" spc="-1" strike="noStrike">
                <a:solidFill>
                  <a:srgbClr val="ff00ff"/>
                </a:solidFill>
                <a:latin typeface="Times New Roman"/>
              </a:rPr>
              <a:t>Good morning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, Jan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Jane: Good morning, Sall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Sally: Oh, Jane, </a:t>
            </a:r>
            <a:r>
              <a:rPr b="1" lang="en-US" sz="3400" spc="-1" strike="noStrike" u="sng">
                <a:solidFill>
                  <a:srgbClr val="ff00ff"/>
                </a:solidFill>
                <a:uFillTx/>
                <a:latin typeface="Times New Roman"/>
              </a:rPr>
              <a:t>this is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my sister Kat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Kate, this is my friend Jan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Kate: </a:t>
            </a:r>
            <a:r>
              <a:rPr b="1" lang="en-US" sz="3400" spc="-1" strike="noStrike">
                <a:solidFill>
                  <a:srgbClr val="ff00ff"/>
                </a:solidFill>
                <a:latin typeface="Times New Roman"/>
              </a:rPr>
              <a:t>Nice to meet you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, Ja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Jane: </a:t>
            </a:r>
            <a:r>
              <a:rPr b="1" lang="en-US" sz="3400" spc="-1" strike="noStrike">
                <a:solidFill>
                  <a:srgbClr val="ff00ff"/>
                </a:solidFill>
                <a:latin typeface="Times New Roman"/>
              </a:rPr>
              <a:t>Nice to meet you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oo. </a:t>
            </a:r>
            <a:br>
              <a:rPr sz="3400"/>
            </a:b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           Are those your paren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048120" y="0"/>
            <a:ext cx="2819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Groupwork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324480" y="4343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too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，也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用于句末前有逗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647720"/>
            <a:ext cx="762012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Kate: Yes, they a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Jane: And </a:t>
            </a:r>
            <a:r>
              <a:rPr b="1" lang="en-US" sz="3400" spc="-1" strike="noStrike" u="sng">
                <a:solidFill>
                  <a:srgbClr val="ff00ff"/>
                </a:solidFill>
                <a:uFillTx/>
                <a:latin typeface="Times New Roman"/>
              </a:rPr>
              <a:t>who’s he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Sally: He’s my brother, Paul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Jane: Oh, I see. Well, </a:t>
            </a:r>
            <a:r>
              <a:rPr b="1" lang="en-US" sz="3400" spc="-1" strike="noStrike" u="sng">
                <a:solidFill>
                  <a:srgbClr val="ff00ff"/>
                </a:solidFill>
                <a:uFillTx/>
                <a:latin typeface="Times New Roman"/>
              </a:rPr>
              <a:t>have a good day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Sally/Kate: Thanks! </a:t>
            </a:r>
            <a:r>
              <a:rPr b="1" lang="en-US" sz="3400" spc="-1" strike="noStrike" u="sng">
                <a:solidFill>
                  <a:srgbClr val="ff00ff"/>
                </a:solidFill>
                <a:uFillTx/>
                <a:latin typeface="Times New Roman"/>
              </a:rPr>
              <a:t>You, too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80880" y="762120"/>
            <a:ext cx="876312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Times New Roman"/>
              </a:rPr>
              <a:t>Good morning.</a:t>
            </a:r>
            <a:r>
              <a:rPr b="1" lang="zh-CN" sz="39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ff"/>
                </a:solidFill>
                <a:latin typeface="Times New Roman"/>
              </a:rPr>
              <a:t>This is ...  </a:t>
            </a:r>
            <a:r>
              <a:rPr b="1" lang="zh-CN" sz="3900" spc="-1" strike="noStrike">
                <a:solidFill>
                  <a:srgbClr val="ff00ff"/>
                </a:solidFill>
                <a:latin typeface="Times New Roman"/>
              </a:rPr>
              <a:t>这是</a:t>
            </a:r>
            <a:r>
              <a:rPr b="1" lang="zh-CN" sz="3900" spc="-1" strike="noStrike">
                <a:solidFill>
                  <a:srgbClr val="ff00ff"/>
                </a:solidFill>
                <a:latin typeface="Times New Roman"/>
              </a:rPr>
              <a:t>.....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Times New Roman"/>
              </a:rPr>
              <a:t>Nice to meet you .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Times New Roman"/>
              </a:rPr>
              <a:t>答：   </a:t>
            </a:r>
            <a:r>
              <a:rPr b="1" lang="zh-CN" sz="3900" spc="-1" strike="noStrike">
                <a:solidFill>
                  <a:srgbClr val="0000ff"/>
                </a:solidFill>
                <a:latin typeface="Times New Roman"/>
              </a:rPr>
              <a:t>Nice to meet you , too.</a:t>
            </a:r>
            <a:r>
              <a:rPr b="1" i="1" lang="zh-CN" sz="3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900" spc="-1" strike="noStrike">
                <a:solidFill>
                  <a:srgbClr val="ff00ff"/>
                </a:solidFill>
                <a:latin typeface="Arial"/>
              </a:rPr>
              <a:t>too</a:t>
            </a:r>
            <a:r>
              <a:rPr b="1" i="1" lang="zh-CN" sz="3900" spc="-1" strike="noStrike">
                <a:solidFill>
                  <a:srgbClr val="ff00ff"/>
                </a:solidFill>
                <a:latin typeface="Arial"/>
              </a:rPr>
              <a:t>，也用于句末前有逗号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ff"/>
                </a:solidFill>
                <a:latin typeface="Times New Roman"/>
              </a:rPr>
              <a:t>Have a good day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3900" spc="-1" strike="noStrike">
                <a:solidFill>
                  <a:srgbClr val="ff00ff"/>
                </a:solidFill>
                <a:latin typeface="Times New Roman"/>
              </a:rPr>
              <a:t>You, too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57200" y="1447920"/>
            <a:ext cx="815328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一、单项选择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. —Is that your sister Anna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—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No, ______ isn’t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. it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. she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C. 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My aunt Alice and my mother are _________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. sisters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. brother       C. brother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3333600" y="399960"/>
            <a:ext cx="21528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Arial"/>
              </a:rPr>
              <a:t>Exercis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4" descr="2010090216"/>
          <p:cNvPicPr/>
          <p:nvPr/>
        </p:nvPicPr>
        <p:blipFill>
          <a:blip r:embed="rId1"/>
          <a:stretch/>
        </p:blipFill>
        <p:spPr>
          <a:xfrm>
            <a:off x="3048120" y="350676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2010090216"/>
          <p:cNvPicPr/>
          <p:nvPr/>
        </p:nvPicPr>
        <p:blipFill>
          <a:blip r:embed="rId2"/>
          <a:stretch/>
        </p:blipFill>
        <p:spPr>
          <a:xfrm>
            <a:off x="762120" y="5562720"/>
            <a:ext cx="684000" cy="68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" y="533520"/>
            <a:ext cx="8458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—Are these your grandparents?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Yes, _____ a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hese       B. th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C. 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—_______ that boy?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He's my friend J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What's  C. Who'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2010090216"/>
          <p:cNvPicPr/>
          <p:nvPr/>
        </p:nvPicPr>
        <p:blipFill>
          <a:blip r:embed="rId1"/>
          <a:stretch/>
        </p:blipFill>
        <p:spPr>
          <a:xfrm>
            <a:off x="2895480" y="205740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2010090216"/>
          <p:cNvPicPr/>
          <p:nvPr/>
        </p:nvPicPr>
        <p:blipFill>
          <a:blip r:embed="rId2"/>
          <a:stretch/>
        </p:blipFill>
        <p:spPr>
          <a:xfrm>
            <a:off x="5105520" y="4114800"/>
            <a:ext cx="684000" cy="6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295280" y="1647720"/>
            <a:ext cx="647712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Look! That's my _______. 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Those are my paren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. family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. brothers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C. friend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2010090216"/>
          <p:cNvPicPr/>
          <p:nvPr/>
        </p:nvPicPr>
        <p:blipFill>
          <a:blip r:embed="rId1"/>
          <a:stretch/>
        </p:blipFill>
        <p:spPr>
          <a:xfrm>
            <a:off x="1447920" y="3049560"/>
            <a:ext cx="684000" cy="6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609480"/>
            <a:ext cx="8229600" cy="56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二、用括号中所给单词的适当形式填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. Lucy, Mary and Linda are my good ______ (friend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Look at the photo. Those are my ____________ (grandparent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Is ___ (these) your sister?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4. They ___ (be) my father and mothe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Mr. Black has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three _______ (brother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90720" y="1981080"/>
            <a:ext cx="2057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frien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90720" y="3200400"/>
            <a:ext cx="2895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grandpar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371600" y="3809880"/>
            <a:ext cx="2057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981080" y="4419720"/>
            <a:ext cx="106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562720" y="5029200"/>
            <a:ext cx="2590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roth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90720" y="911160"/>
            <a:ext cx="693396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三、连词成句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. my, is, Bill, This,  friend, (.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parents, these, your, Are, (?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day, a, good, Have, (!)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447920" y="235908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This is my friend Bi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447920" y="3733920"/>
            <a:ext cx="4800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re these your paren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447920" y="5105520"/>
            <a:ext cx="655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Have a good day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685800" y="1635120"/>
            <a:ext cx="8153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4. are, grandparents, Those, his, (.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is, she, Who, (?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66680" y="2397240"/>
            <a:ext cx="6934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Those are his grandpare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66680" y="3798720"/>
            <a:ext cx="4724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Who is sh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08:28:38Z</dcterms:created>
  <dc:creator>xp</dc:creator>
  <dc:description/>
  <dc:language>en-US</dc:language>
  <cp:lastModifiedBy>xp</cp:lastModifiedBy>
  <dcterms:modified xsi:type="dcterms:W3CDTF">2017-09-30T07:59:57Z</dcterms:modified>
  <cp:revision>2</cp:revision>
  <dc:subject/>
  <dc:title>幻灯片 1</dc:title>
</cp:coreProperties>
</file>